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ECEF-847B-4B2A-B66D-C903B585D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monstrate the steps used to create the radian wh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flect on what these slides mean to you as you think about becoming a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F11-B742-4840-8166-7521FCF0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502-C78A-423C-99BE-1122412C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ED0-5353-45BA-993E-EB148CA2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247-7E7D-4CA4-942B-11E923E6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83DC-6277-45A9-9386-F55AD4D0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BB48-3F5B-4051-8D14-68789A8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7DF9-9E06-4C4F-8BB4-54648CE3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696B-257D-4E76-BE9E-4715A4A3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48D-2646-419B-95F8-B9C7C245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24C7-E30B-431A-A751-08346215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924C-74BA-4529-8309-653061F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282-0041-49C9-A86E-157BC603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F25F-5265-492B-BA3D-8E459262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4ED8-CED5-4FAB-A528-029D73C2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6999-E726-4936-9D76-6BCA58F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072A-0BA5-424A-80F0-75C25F97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08C5-8BB7-45F1-AD8E-C1B0E6D5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159-35AF-4B85-837E-AC8A91F3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55F-4478-46CD-A701-BD9B0022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D7B-36DB-4132-B0C6-6493874E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B0F-D8A1-4AEA-A87B-F2DC0FB8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04A-7124-4502-BAD3-7B1A502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578-234D-41BD-AD21-D58EF9A1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162-F96A-4C90-A171-841AD52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9A48-232F-42D0-A3D6-7746D18002A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DB9-56A7-416A-8DC5-B09C4323F35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solcomhouse.com/solar_system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rigonometric Fun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turn to share: How we opened up the tas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arted with an existing task (Hula Hoop Activity from TIPS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eveloped learning goals based on the overall/specific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Focus on 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nstration: Radian Whee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How to make a radian whe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mplete steps 3 through 7 and explore the relationship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 to real world phenomen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40000" y="3392640"/>
            <a:ext cx="2857320" cy="457200"/>
            <a:chOff x="2340000" y="3392640"/>
            <a:chExt cx="2857320" cy="457200"/>
          </a:xfrm>
        </p:grpSpPr>
        <p:sp>
          <p:nvSpPr>
            <p:cNvPr id="136" name=""/>
            <p:cNvSpPr/>
            <p:nvPr/>
          </p:nvSpPr>
          <p:spPr>
            <a:xfrm>
              <a:off x="2340000" y="3392640"/>
              <a:ext cx="456840" cy="457200"/>
            </a:xfrm>
            <a:prstGeom prst="ellipse">
              <a:avLst/>
            </a:prstGeom>
            <a:solidFill>
              <a:srgbClr val="ffff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0960" y="3621240"/>
              <a:ext cx="2286360" cy="114120"/>
            </a:xfrm>
            <a:prstGeom prst="rect">
              <a:avLst/>
            </a:prstGeom>
            <a:solidFill>
              <a:srgbClr val="ffff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look at a future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:\Radians\CLIP 2 Understanding the UNIT Circle.g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mathedirene.wikispaces.com/Radians+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07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ing your own parallel task (small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elect a big idea and an overall expectation from a Trig Functions strand (include appropriate specific expectations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sider the connected potential misconceptions/struggles/partial understandings that students have (posted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reate a learning goal and an appropriate parallel task that addresses the area of difficulty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Consolidate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a drop of water falls from the tip of an ici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6675" t="667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1881360"/>
            <a:ext cx="54723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Consolidate Debrief</a:t>
            </a:r>
            <a:br>
              <a:rPr sz="40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your understandings of today’s activities in your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“What’s Important Boo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What’s the most important thing about a radian? about an angle? about periodic functions?..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What’s the most important thing about creating a parallel task? An open question?..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Any concept focussed on trig func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Home Activity/ Further Consolidation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ould you like to discuss during the next coaching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n what you’ve learned today in this breakout session, what is challenging my beliefs about teaching trigonometric functions?  What new learning do I believe has helped me shift my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groups of four record on a placemat different real phenomena which involve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Minute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2498760" cy="284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67280" y="3284640"/>
            <a:ext cx="2870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t’s 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35640" y="1808280"/>
            <a:ext cx="2411280" cy="21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79640" y="2637000"/>
            <a:ext cx="2700360" cy="2253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80000" y="425772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55640" y="483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28000" y="22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504972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erris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7640" y="1700280"/>
            <a:ext cx="3708360" cy="2768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43640" y="1736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84360" y="44737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48360" y="4437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95640" y="4221000"/>
            <a:ext cx="2556000" cy="2111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832360" y="57340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delling real phenomena with trig functions requires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808280"/>
            <a:ext cx="3851280" cy="2987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61800" y="48690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und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097000"/>
            <a:ext cx="3635640" cy="215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4329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6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allel Task: Walk the Walk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92720" y="26002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eams of three (walker, calculator operator, CBR mana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lect one of the walks pictured or create your own see BLM 3.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and record how you will “Walk the Walk”  to make the graph and use this knowledge to create a similar graph with a graphing calculator and a C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hy is this a parallel/open tas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caffolding question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cepts covered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on to big idea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alk the Tal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ervices</cp:lastModifiedBy>
  <dcterms:modified xsi:type="dcterms:W3CDTF">2009-08-12T03:01:47Z</dcterms:modified>
  <cp:revision>100</cp:revision>
  <dc:subject/>
  <dc:title>Slide 1</dc:title>
</cp:coreProperties>
</file>